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384600517954466"/>
          <c:y val="0.0344714809000523"/>
          <c:w val="0.759615012948862"/>
          <c:h val="0.9396912611198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mount of water in m3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North America</c:v>
                </c:pt>
                <c:pt idx="1">
                  <c:v>Europe</c:v>
                </c:pt>
                <c:pt idx="2">
                  <c:v>Australia</c:v>
                </c:pt>
                <c:pt idx="3">
                  <c:v>Asia</c:v>
                </c:pt>
                <c:pt idx="4">
                  <c:v>South America</c:v>
                </c:pt>
                <c:pt idx="5">
                  <c:v>Afri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280</c:v>
                </c:pt>
                <c:pt idx="1">
                  <c:v>694</c:v>
                </c:pt>
                <c:pt idx="2">
                  <c:v>694</c:v>
                </c:pt>
                <c:pt idx="3">
                  <c:v>535</c:v>
                </c:pt>
                <c:pt idx="4">
                  <c:v>311</c:v>
                </c:pt>
                <c:pt idx="5">
                  <c:v>186</c:v>
                </c:pt>
              </c:numCache>
            </c:numRef>
          </c:val>
        </c:ser>
        <c:gapWidth val="100"/>
        <c:overlap val="0"/>
        <c:axId val="92568101"/>
        <c:axId val="89694216"/>
      </c:barChart>
      <c:catAx>
        <c:axId val="925681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470" spc="-1" strike="noStrike">
                <a:solidFill>
                  <a:srgbClr val="ff3366"/>
                </a:solidFill>
                <a:latin typeface="Arial"/>
                <a:ea typeface="Arial Unicode MS"/>
              </a:defRPr>
            </a:pPr>
          </a:p>
        </c:txPr>
        <c:crossAx val="89694216"/>
        <c:crossesAt val="0"/>
        <c:auto val="1"/>
        <c:lblAlgn val="ctr"/>
        <c:lblOffset val="100"/>
        <c:noMultiLvlLbl val="0"/>
      </c:catAx>
      <c:valAx>
        <c:axId val="89694216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679" spc="-1" strike="noStrike">
                <a:solidFill>
                  <a:srgbClr val="ff3366"/>
                </a:solidFill>
                <a:latin typeface="Arial"/>
                <a:ea typeface="Arial Unicode MS"/>
              </a:defRPr>
            </a:pPr>
          </a:p>
        </c:txPr>
        <c:crossAx val="9256810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666344555680105"/>
          <c:y val="0.42445054945054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70" spc="-1" strike="noStrike">
              <a:solidFill>
                <a:srgbClr val="ff3366"/>
              </a:solidFill>
              <a:latin typeface="Arial"/>
              <a:ea typeface="Arial Unicode MS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50" spc="-1" strike="noStrike">
                <a:solidFill>
                  <a:srgbClr val="ff3333"/>
                </a:solidFill>
                <a:latin typeface="Arial"/>
                <a:ea typeface="Arial Unicode MS"/>
              </a:defRPr>
            </a:pPr>
            <a:r>
              <a:rPr b="0" sz="2050" spc="-1" strike="noStrike">
                <a:solidFill>
                  <a:srgbClr val="ff3333"/>
                </a:solidFill>
                <a:latin typeface="Arial"/>
                <a:ea typeface="Arial Unicode MS"/>
              </a:rPr>
              <a:t>RESSOURCES RHONE ALPES</a:t>
            </a:r>
          </a:p>
        </c:rich>
      </c:tx>
      <c:layout>
        <c:manualLayout>
          <c:xMode val="edge"/>
          <c:yMode val="edge"/>
          <c:x val="0.231123055455062"/>
          <c:y val="0.01981541802388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3513876686"/>
          <c:y val="0.132555193630112"/>
          <c:w val="0.715850948369425"/>
          <c:h val="0.847538906985161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Ressources souterraines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95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Ain</c:v>
                </c:pt>
                <c:pt idx="1">
                  <c:v>Ardèche</c:v>
                </c:pt>
                <c:pt idx="2">
                  <c:v>Drôme</c:v>
                </c:pt>
                <c:pt idx="3">
                  <c:v>Isère</c:v>
                </c:pt>
                <c:pt idx="4">
                  <c:v>Loire</c:v>
                </c:pt>
                <c:pt idx="5">
                  <c:v>Rhône</c:v>
                </c:pt>
                <c:pt idx="6">
                  <c:v>Savoie</c:v>
                </c:pt>
                <c:pt idx="7">
                  <c:v>Haute-Savoi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</c:v>
                </c:pt>
                <c:pt idx="1">
                  <c:v>0.95</c:v>
                </c:pt>
                <c:pt idx="2">
                  <c:v>1</c:v>
                </c:pt>
                <c:pt idx="3">
                  <c:v>0.9</c:v>
                </c:pt>
                <c:pt idx="4">
                  <c:v>0.2</c:v>
                </c:pt>
                <c:pt idx="5">
                  <c:v>0.97</c:v>
                </c:pt>
                <c:pt idx="6">
                  <c:v>0.83</c:v>
                </c:pt>
                <c:pt idx="7">
                  <c:v>0.8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essources Superficielles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95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Ain</c:v>
                </c:pt>
                <c:pt idx="1">
                  <c:v>Ardèche</c:v>
                </c:pt>
                <c:pt idx="2">
                  <c:v>Drôme</c:v>
                </c:pt>
                <c:pt idx="3">
                  <c:v>Isère</c:v>
                </c:pt>
                <c:pt idx="4">
                  <c:v>Loire</c:v>
                </c:pt>
                <c:pt idx="5">
                  <c:v>Rhône</c:v>
                </c:pt>
                <c:pt idx="6">
                  <c:v>Savoie</c:v>
                </c:pt>
                <c:pt idx="7">
                  <c:v>Haute-Savoi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</c:v>
                </c:pt>
                <c:pt idx="1">
                  <c:v>0.05</c:v>
                </c:pt>
                <c:pt idx="2">
                  <c:v>0</c:v>
                </c:pt>
                <c:pt idx="3">
                  <c:v>0.1</c:v>
                </c:pt>
                <c:pt idx="4">
                  <c:v>0.8</c:v>
                </c:pt>
                <c:pt idx="5">
                  <c:v>0.03</c:v>
                </c:pt>
                <c:pt idx="6">
                  <c:v>0.07</c:v>
                </c:pt>
                <c:pt idx="7">
                  <c:v>0.08</c:v>
                </c:pt>
              </c:numCache>
            </c:numRef>
          </c:val>
        </c:ser>
        <c:gapWidth val="100"/>
        <c:overlap val="100"/>
        <c:axId val="36929607"/>
        <c:axId val="19209734"/>
      </c:barChart>
      <c:catAx>
        <c:axId val="369296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19209734"/>
        <c:crossesAt val="0"/>
        <c:auto val="1"/>
        <c:lblAlgn val="ctr"/>
        <c:lblOffset val="100"/>
        <c:noMultiLvlLbl val="0"/>
      </c:catAx>
      <c:valAx>
        <c:axId val="19209734"/>
        <c:scaling>
          <c:orientation val="minMax"/>
        </c:scaling>
        <c:delete val="0"/>
        <c:axPos val="l"/>
        <c:numFmt formatCode="0.00%" sourceLinked="0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36929607"/>
        <c:crosses val="min"/>
        <c:crossBetween val="between"/>
      </c:valAx>
      <c:spPr>
        <a:solidFill>
          <a:srgbClr val="ff8080"/>
        </a:solidFill>
        <a:ln w="0">
          <a:noFill/>
        </a:ln>
      </c:spPr>
    </c:plotArea>
    <c:legend>
      <c:legendPos val="r"/>
      <c:layout>
        <c:manualLayout>
          <c:xMode val="edge"/>
          <c:yMode val="edge"/>
          <c:x val="0.75202852860613"/>
          <c:y val="0.447430329352153"/>
        </c:manualLayout>
      </c:layout>
      <c:overlay val="0"/>
      <c:spPr>
        <a:noFill/>
        <a:ln w="0">
          <a:solidFill>
            <a:srgbClr val="944794"/>
          </a:solidFill>
        </a:ln>
      </c:spPr>
      <c:txPr>
        <a:bodyPr/>
        <a:lstStyle/>
        <a:p>
          <a:pPr>
            <a:defRPr b="0" sz="950" spc="-1" strike="noStrike">
              <a:solidFill>
                <a:srgbClr val="000000"/>
              </a:solidFill>
              <a:latin typeface="Trebuchet MS"/>
              <a:ea typeface="Arial Unicode MS"/>
            </a:defRPr>
          </a:pPr>
        </a:p>
      </c:txPr>
    </c:legend>
    <c:plotVisOnly val="0"/>
    <c:dispBlanksAs val="gap"/>
  </c:chart>
  <c:spPr>
    <a:solidFill>
      <a:srgbClr val="ffffff">
        <a:alpha val="50000"/>
      </a:srgbClr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0C3-19CD-4CEA-8F08-0EA0C7B3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967-CF90-4F18-8B99-F2EF9816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232-D729-4294-9BA1-07631DAA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9A1-8A66-4B56-801C-04BF18B4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C1E-648C-4E2B-B7C2-6D6DAFF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41A-9E80-40DA-A35B-5310079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C0C-BE01-4ADB-AAB5-DB04730A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B6C-E20E-4B44-92F5-3924F23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4D1-F408-4DCF-986C-410AE6D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6EA-2A33-4070-8217-433B0D4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E90-A9AB-4971-9E09-E52E154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5A9-D1B6-457D-9C99-8DF3FA6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F6560-439D-4540-9657-53EC29387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pqvmM94VdE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139968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66cc"/>
                </a:solidFill>
                <a:latin typeface="Arial Narrow"/>
              </a:rPr>
              <a:t>Before watching our Powerpoint, click on this link :  start the music and then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http://www.youtube.com/watch?v=pqvmM94V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 u="sng">
                <a:solidFill>
                  <a:srgbClr val="660066"/>
                </a:solidFill>
                <a:uFillTx/>
                <a:latin typeface="Arial Narrow"/>
              </a:rPr>
              <a:t>Credi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24807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Photos </a:t>
            </a:r>
            <a:r>
              <a:rPr b="0" lang="en-US" sz="4400" spc="-1" strike="noStrike">
                <a:solidFill>
                  <a:srgbClr val="ff3366"/>
                </a:solidFill>
                <a:latin typeface="Arial Narrow"/>
              </a:rPr>
              <a:t>found</a:t>
            </a: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 on Internet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GraphicMap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LyndseyMcCollam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60720" y="1619280"/>
            <a:ext cx="521964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W</a:t>
            </a:r>
            <a:r>
              <a:rPr b="0" lang="fr-FR" sz="8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0" lang="fr-FR" sz="8000" spc="-1" strike="noStrike">
                <a:solidFill>
                  <a:srgbClr val="ff8080"/>
                </a:solidFill>
                <a:latin typeface="Trebuchet MS"/>
              </a:rPr>
              <a:t>T</a:t>
            </a:r>
            <a:r>
              <a:rPr b="0" lang="fr-FR" sz="8000" spc="-1" strike="noStrike">
                <a:solidFill>
                  <a:srgbClr val="333366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b8ff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00dcff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94bd5e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ae00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0" lang="fr-FR" sz="8000" spc="-1" strike="noStrike">
                <a:solidFill>
                  <a:srgbClr val="ff3366"/>
                </a:solidFill>
                <a:latin typeface="Trebuchet MS"/>
              </a:rPr>
              <a:t>U</a:t>
            </a:r>
            <a:r>
              <a:rPr b="0" lang="fr-FR" sz="8000" spc="-1" strike="noStrike">
                <a:solidFill>
                  <a:srgbClr val="ffff00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fr-FR" sz="8000" spc="-1" strike="noStrike">
                <a:solidFill>
                  <a:srgbClr val="3deb3d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00ff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280099"/>
                </a:solidFill>
                <a:latin typeface="Trebuchet MS"/>
              </a:rPr>
              <a:t>&amp;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ff3333"/>
                </a:solidFill>
                <a:latin typeface="Trebuchet MS"/>
              </a:rPr>
              <a:t>U</a:t>
            </a:r>
            <a:r>
              <a:rPr b="0" lang="fr-FR" sz="8000" spc="-1" strike="noStrike">
                <a:solidFill>
                  <a:srgbClr val="ff8080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47b8b8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720" y="0"/>
            <a:ext cx="5580000" cy="792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480"/>
            <a:ext cx="907092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 u="sng">
                <a:solidFill>
                  <a:srgbClr val="800080"/>
                </a:solidFill>
                <a:uFillTx/>
                <a:latin typeface="Verdana"/>
              </a:rPr>
              <a:t>The world water suppli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647440"/>
            <a:ext cx="9070920" cy="67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bout 70% of the earth's surface is covered in water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total water supply of the world is 1.400.000.000 k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f all the water on earth, only 3% is freshwater. 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m the quantities listed above, one can conclude that less than 1% of the water supply on earth can be used as drinking wate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3280" y="6480"/>
            <a:ext cx="90709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 u="sng">
                <a:solidFill>
                  <a:srgbClr val="800080"/>
                </a:solidFill>
                <a:uFillTx/>
                <a:latin typeface="Verdana"/>
              </a:rPr>
              <a:t>How much water do we u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77800" y="1905120"/>
          <a:ext cx="9313920" cy="550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10260000" cy="792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720"/>
            <a:ext cx="90709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ff8080"/>
                </a:solidFill>
                <a:uFillTx/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979640"/>
            <a:ext cx="907092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The big bodies of water in Europe are, the s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Caspian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lack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Mediterranean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Atlantic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North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altic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Arctic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arents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Norwegi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92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ae00"/>
                </a:solidFill>
                <a:uFillTx/>
                <a:latin typeface="Arial"/>
              </a:rPr>
              <a:t>Fr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rance has borders with two big bodies of water: the Atlantic ocean and the Medite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We also have several rivers: the Rhône, the Seine, the Loire and a part of the R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tal domestic use in France is about 6 billions cubic meters, only 3% of total runoff. 62 % of drinking water supply is from grounwater and 38 % if from surfac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800080"/>
                </a:solidFill>
                <a:uFillTx/>
                <a:latin typeface="Arial"/>
              </a:rPr>
              <a:t>Rhône Al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60360" y="1440000"/>
          <a:ext cx="9360000" cy="55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2072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rebuchet MS"/>
              </a:rPr>
              <a:t>GROUP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4000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9400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6072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7964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4476b"/>
                </a:solidFill>
                <a:latin typeface="Trebuchet MS"/>
              </a:rPr>
              <a:t>Clémentine Gaut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0036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3366"/>
                </a:solidFill>
                <a:latin typeface="Trebuchet MS"/>
              </a:rPr>
              <a:t>Pauline Ti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31964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cc66"/>
                </a:solidFill>
                <a:latin typeface="Trebuchet MS"/>
              </a:rPr>
              <a:t>Clémence La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04036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rebuchet MS"/>
              </a:rPr>
              <a:t>Victoire Rap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5928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6b4794"/>
                </a:solidFill>
                <a:latin typeface="Trebuchet MS"/>
              </a:rPr>
              <a:t>Fleur-Amélie Fa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480000"/>
            <a:ext cx="10080720" cy="721080"/>
          </a:xfrm>
          <a:prstGeom prst="roundRect">
            <a:avLst>
              <a:gd name="adj" fmla="val 218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199280"/>
            <a:ext cx="10080720" cy="360360"/>
          </a:xfrm>
          <a:prstGeom prst="roundRect">
            <a:avLst>
              <a:gd name="adj" fmla="val 440"/>
            </a:avLst>
          </a:prstGeom>
          <a:solidFill>
            <a:srgbClr val="4700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